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93B1-25A5-425F-AF5A-54D8C3AF578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2794-BBDC-448C-AD04-FF8A4BFCB20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E7CD-7E7C-45A1-B38A-08D2A514BE5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FDAD1-75EF-4907-910F-9DB4CF51B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CB3F7-9FA2-4626-B912-74FBC1F1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84B16-26B8-4F3B-811C-613BEC92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C3FA5-9DEC-4F81-AD52-D0B5F076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90FE5-A912-4AE8-AD11-6517D8FB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BD2B1-9A1B-4D9B-9A0D-4765BC84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C5C1E-7E71-41B1-B116-AEE42411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80AD8-53AF-43DC-BB62-999CB485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B4205-903A-46A8-ADEB-426BA0E6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252CA-57E9-4E22-8A2E-4D8C5082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06D01-5943-4426-B231-400D37B9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91D0E-B701-476C-A4AA-CC453853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546C6E-476F-4957-A506-B4CD59FEC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143EE6-E61F-4819-BA5E-5A5E0960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C10066-2EE0-487A-B4C9-25664043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9D9EF9-FC28-48B4-8C6D-6EAFDE31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2549FE-6326-439B-B5F0-74EDD3A1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09C2D3-6BEC-4B9A-90BE-2D1EA60B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221EED-60CE-4846-92C6-C57FFCB3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F55E9C-B67B-4D83-B0A1-4592C101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C71C2C-6DE5-4DA5-84ED-5684E890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2D3260-3FB0-436B-A02D-FD2B8DCA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EE230F-76B4-4DA0-8762-AE9CF3F30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8684BE-D559-4964-B928-C7ABB810A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8036-6464-4AFB-B262-DCCF1DFFB0F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5F24-ED6E-47BC-A84B-2781137F4DAE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A137-E089-4827-96DD-FDBE6E9DD3D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C363-BDFC-4DFB-8371-28DD9F0120F8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9A60-0392-4F65-BAD7-7C10607A408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963B-1025-4ECE-B168-F1B5542F81E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BA3C-0A14-4A34-B1BC-2E57158246DC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7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2214360"/>
            <a:ext cx="83152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4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건강과 케어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그룹 11"/>
          <p:cNvGrpSpPr/>
          <p:nvPr/>
        </p:nvGrpSpPr>
        <p:grpSpPr>
          <a:xfrm>
            <a:off x="285840" y="71280"/>
            <a:ext cx="8715240" cy="5999400"/>
            <a:chOff x="285840" y="71280"/>
            <a:chExt cx="8715240" cy="5999400"/>
          </a:xfrm>
        </p:grpSpPr>
        <p:sp>
          <p:nvSpPr>
            <p:cNvPr id="538" name="AutoShape 4"/>
            <p:cNvSpPr/>
            <p:nvPr/>
          </p:nvSpPr>
          <p:spPr>
            <a:xfrm>
              <a:off x="285840" y="71280"/>
              <a:ext cx="41432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케어기술의 적용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9" name="그룹 7"/>
            <p:cNvGrpSpPr/>
            <p:nvPr/>
          </p:nvGrpSpPr>
          <p:grpSpPr>
            <a:xfrm>
              <a:off x="285840" y="745920"/>
              <a:ext cx="8715240" cy="3254760"/>
              <a:chOff x="285840" y="745920"/>
              <a:chExt cx="8715240" cy="3254760"/>
            </a:xfrm>
          </p:grpSpPr>
          <p:sp>
            <p:nvSpPr>
              <p:cNvPr id="540" name="AutoShape 2"/>
              <p:cNvSpPr/>
              <p:nvPr/>
            </p:nvSpPr>
            <p:spPr>
              <a:xfrm>
                <a:off x="428400" y="1143000"/>
                <a:ext cx="8572680" cy="2857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Text Box 6"/>
              <p:cNvSpPr/>
              <p:nvPr/>
            </p:nvSpPr>
            <p:spPr>
              <a:xfrm>
                <a:off x="571320" y="1142640"/>
                <a:ext cx="8429760" cy="28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체성과 자립성을 높일 수 있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이 유지되고 와상을 예방할 수 있는 주거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와 가족과 통합될 수 있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적 사생활이 보장되는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에 맞는 기능적 환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 등의 저하로 인한 사고의 예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청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풍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채광 등의 배려와 비상사태 대응책 마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시설의 경우 사회적 상호작용을 촉진하는 친사회적 환경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2" name="직사각형 10"/>
              <p:cNvSpPr/>
              <p:nvPr/>
            </p:nvSpPr>
            <p:spPr>
              <a:xfrm>
                <a:off x="285840" y="74592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에 적합한 생활환경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3" name="직사각형 23"/>
            <p:cNvSpPr/>
            <p:nvPr/>
          </p:nvSpPr>
          <p:spPr>
            <a:xfrm>
              <a:off x="285840" y="4389480"/>
              <a:ext cx="6072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주거 및 실내환경 조성방법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5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4" name="직사각형 24"/>
            <p:cNvSpPr/>
            <p:nvPr/>
          </p:nvSpPr>
          <p:spPr>
            <a:xfrm>
              <a:off x="285840" y="5032440"/>
              <a:ext cx="7715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환자의 기본적 일상생활 지원</a:t>
              </a:r>
              <a:r>
                <a:rPr b="0" lang="en-US" sz="20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6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직사각형 25"/>
            <p:cNvSpPr/>
            <p:nvPr/>
          </p:nvSpPr>
          <p:spPr>
            <a:xfrm>
              <a:off x="285840" y="5675400"/>
              <a:ext cx="7286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질병의 증상 간호</a:t>
              </a:r>
              <a:r>
                <a:rPr b="0" lang="en-US" sz="2000" spc="-1" strike="noStrike">
                  <a:solidFill>
                    <a:srgbClr val="af334e"/>
                  </a:solidFill>
                  <a:latin typeface="Arial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Arial"/>
                </a:rPr>
                <a:t>4-17 </a:t>
              </a:r>
              <a:r>
                <a:rPr b="0" lang="ko-KR" sz="1800" spc="-1" strike="noStrike">
                  <a:solidFill>
                    <a:srgbClr val="af334e"/>
                  </a:solidFill>
                  <a:latin typeface="Arial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그룹 13"/>
          <p:cNvGrpSpPr/>
          <p:nvPr/>
        </p:nvGrpSpPr>
        <p:grpSpPr>
          <a:xfrm>
            <a:off x="0" y="0"/>
            <a:ext cx="9358200" cy="6656400"/>
            <a:chOff x="0" y="0"/>
            <a:chExt cx="9358200" cy="6656400"/>
          </a:xfrm>
        </p:grpSpPr>
        <p:sp>
          <p:nvSpPr>
            <p:cNvPr id="547" name="AutoShape 2"/>
            <p:cNvSpPr/>
            <p:nvPr/>
          </p:nvSpPr>
          <p:spPr>
            <a:xfrm>
              <a:off x="285480" y="3929040"/>
              <a:ext cx="8643960" cy="1431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4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Rectangle 2"/>
            <p:cNvSpPr/>
            <p:nvPr/>
          </p:nvSpPr>
          <p:spPr>
            <a:xfrm>
              <a:off x="1071360" y="71280"/>
              <a:ext cx="828684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8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의 건강문제로 인한 사회비용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"/>
            <p:cNvSpPr/>
            <p:nvPr/>
          </p:nvSpPr>
          <p:spPr>
            <a:xfrm>
              <a:off x="285480" y="1285920"/>
              <a:ext cx="864396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Text Box 6"/>
            <p:cNvSpPr/>
            <p:nvPr/>
          </p:nvSpPr>
          <p:spPr>
            <a:xfrm>
              <a:off x="285480" y="1339920"/>
              <a:ext cx="8643960" cy="19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05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,159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 →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20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6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6.766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체 의료비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2.3%)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-18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20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의료급여제도의 노인의료비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4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,380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억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는 총 급여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50.3%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차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당 의료비는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91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만원으로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체 인구의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.9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 정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이유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(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인구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장기요양 욕구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료이용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＋건강보험 수가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체계 변화와 인상＋고비용 치료기기 도입 등의 병원비용 증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SzPct val="10283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030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91.3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원</a:t>
              </a:r>
              <a:r>
                <a:rPr b="0" lang="en-US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 국가재정 악화 초래 가능성→ 노인의료비 경감대책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직사각형 17"/>
            <p:cNvSpPr/>
            <p:nvPr/>
          </p:nvSpPr>
          <p:spPr>
            <a:xfrm>
              <a:off x="285480" y="857160"/>
              <a:ext cx="5072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의료비 증가추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3" name="그룹 10"/>
            <p:cNvGrpSpPr/>
            <p:nvPr/>
          </p:nvGrpSpPr>
          <p:grpSpPr>
            <a:xfrm>
              <a:off x="285480" y="3486240"/>
              <a:ext cx="8572680" cy="1809000"/>
              <a:chOff x="285480" y="3486240"/>
              <a:chExt cx="8572680" cy="1809000"/>
            </a:xfrm>
          </p:grpSpPr>
          <p:sp>
            <p:nvSpPr>
              <p:cNvPr id="554" name="직사각형 18"/>
              <p:cNvSpPr/>
              <p:nvPr/>
            </p:nvSpPr>
            <p:spPr>
              <a:xfrm>
                <a:off x="285480" y="3486240"/>
                <a:ext cx="664380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과 가족의 비용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5" name="Text Box 6"/>
              <p:cNvSpPr/>
              <p:nvPr/>
            </p:nvSpPr>
            <p:spPr>
              <a:xfrm>
                <a:off x="285480" y="3961080"/>
                <a:ext cx="8572680" cy="133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건강문제로 인한 비용은 의료비와 함께 가족노동력 손실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부담 등 심리사회적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용을 동시 고려해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가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적 압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문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활동의 제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 갈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역할부담과 가중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활동 제한 등의 스트레스로 인해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기능과 삶의 질이 저하 되기도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56" name="그룹 12"/>
            <p:cNvGrpSpPr/>
            <p:nvPr/>
          </p:nvGrpSpPr>
          <p:grpSpPr>
            <a:xfrm>
              <a:off x="0" y="5407200"/>
              <a:ext cx="5796000" cy="1249200"/>
              <a:chOff x="0" y="5407200"/>
              <a:chExt cx="5796000" cy="1249200"/>
            </a:xfrm>
          </p:grpSpPr>
          <p:pic>
            <p:nvPicPr>
              <p:cNvPr id="557" name="Picture 4" descr="C:\DOCUME~1\USER\LOCALS~1\Temp\UNI000006c8818c.gif"/>
              <p:cNvPicPr/>
              <p:nvPr/>
            </p:nvPicPr>
            <p:blipFill>
              <a:blip r:embed="rId11"/>
              <a:stretch/>
            </p:blipFill>
            <p:spPr>
              <a:xfrm>
                <a:off x="0" y="5407200"/>
                <a:ext cx="1390680" cy="12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Rectangle 4"/>
              <p:cNvSpPr/>
              <p:nvPr/>
            </p:nvSpPr>
            <p:spPr>
              <a:xfrm>
                <a:off x="1312920" y="6085080"/>
                <a:ext cx="4483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0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치매의 이해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건강과 노인성 질환의 개념과 특성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주요 질환과 질병의 양상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일상생활 동작능력과 영양관리방법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환자 보호를 위한 케어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(care)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기술의 습득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건강 문제로 인한 개인 및 사회비용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9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71816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4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건강과 케어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그룹 11"/>
          <p:cNvGrpSpPr/>
          <p:nvPr/>
        </p:nvGrpSpPr>
        <p:grpSpPr>
          <a:xfrm>
            <a:off x="0" y="0"/>
            <a:ext cx="9144000" cy="6370200"/>
            <a:chOff x="0" y="0"/>
            <a:chExt cx="9144000" cy="6370200"/>
          </a:xfrm>
        </p:grpSpPr>
        <p:sp>
          <p:nvSpPr>
            <p:cNvPr id="442" name="AutoShape 2"/>
            <p:cNvSpPr/>
            <p:nvPr/>
          </p:nvSpPr>
          <p:spPr>
            <a:xfrm>
              <a:off x="180720" y="1285920"/>
              <a:ext cx="8820360" cy="2286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건강과 질병의 개념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5" name="그룹 10"/>
            <p:cNvGrpSpPr/>
            <p:nvPr/>
          </p:nvGrpSpPr>
          <p:grpSpPr>
            <a:xfrm>
              <a:off x="0" y="857160"/>
              <a:ext cx="8929800" cy="2683800"/>
              <a:chOff x="0" y="857160"/>
              <a:chExt cx="8929800" cy="2683800"/>
            </a:xfrm>
          </p:grpSpPr>
          <p:sp>
            <p:nvSpPr>
              <p:cNvPr id="446" name="AutoShape 29"/>
              <p:cNvSpPr/>
              <p:nvPr/>
            </p:nvSpPr>
            <p:spPr>
              <a:xfrm>
                <a:off x="0" y="85716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건강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7" name="Text Box 25"/>
              <p:cNvSpPr/>
              <p:nvPr/>
            </p:nvSpPr>
            <p:spPr>
              <a:xfrm>
                <a:off x="288720" y="1285560"/>
                <a:ext cx="8641080" cy="22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히 허약성이나 질병이 없는 상태가 아니라 신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 완전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HO).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이 없는 소극적 의미가 아니라 모든 삶의 영역에서의 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well-being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미하는 적극적 개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은 최악의 건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illness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최고의 안녕상태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health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를 양극단으로 하는 연속선상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 없음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측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위와 역할 수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환경과의 상호작용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스트레스에 적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행복론적 측면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ell-being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자기실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점에서 상이하게 규정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8" name="AutoShape 2"/>
            <p:cNvSpPr/>
            <p:nvPr/>
          </p:nvSpPr>
          <p:spPr>
            <a:xfrm>
              <a:off x="180720" y="4000680"/>
              <a:ext cx="882036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9" name="그룹 10"/>
            <p:cNvGrpSpPr/>
            <p:nvPr/>
          </p:nvGrpSpPr>
          <p:grpSpPr>
            <a:xfrm>
              <a:off x="142560" y="3571920"/>
              <a:ext cx="8786880" cy="2798280"/>
              <a:chOff x="142560" y="3571920"/>
              <a:chExt cx="8786880" cy="2798280"/>
            </a:xfrm>
          </p:grpSpPr>
          <p:sp>
            <p:nvSpPr>
              <p:cNvPr id="450" name="AutoShape 29"/>
              <p:cNvSpPr/>
              <p:nvPr/>
            </p:nvSpPr>
            <p:spPr>
              <a:xfrm>
                <a:off x="142560" y="35719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질병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1" name="Text Box 25"/>
              <p:cNvSpPr/>
              <p:nvPr/>
            </p:nvSpPr>
            <p:spPr>
              <a:xfrm>
                <a:off x="290160" y="4000320"/>
                <a:ext cx="8639280" cy="236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에는 건강 결정요인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습관 등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노화과정이 복합적으로 작용하여 정상적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가 병리적 노화과정으로 전이되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 결과로 질병을 앓을 가능성이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행 또는 회피가 가능한 생물학적 불균형 상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을 생물학적 기계의 고장으로만 규정하기 보다는 개인의 주관적 건강평가에 관심을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울여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히 노년기에는 질병 유무에 의한 객관적 건강평가와 노인의 주관적 판단에 의한 기능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가가 모두 의미가 있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그룹 11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sp>
          <p:nvSpPr>
            <p:cNvPr id="453" name="AutoShape 2"/>
            <p:cNvSpPr/>
            <p:nvPr/>
          </p:nvSpPr>
          <p:spPr>
            <a:xfrm>
              <a:off x="323640" y="4429080"/>
              <a:ext cx="846324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AutoShape 2"/>
            <p:cNvSpPr/>
            <p:nvPr/>
          </p:nvSpPr>
          <p:spPr>
            <a:xfrm>
              <a:off x="323640" y="1214280"/>
              <a:ext cx="8463240" cy="2786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5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성 질환의 특성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7" name="그룹 10"/>
            <p:cNvGrpSpPr/>
            <p:nvPr/>
          </p:nvGrpSpPr>
          <p:grpSpPr>
            <a:xfrm>
              <a:off x="145800" y="804600"/>
              <a:ext cx="8926560" cy="3219480"/>
              <a:chOff x="145800" y="804600"/>
              <a:chExt cx="8926560" cy="3219480"/>
            </a:xfrm>
          </p:grpSpPr>
          <p:sp>
            <p:nvSpPr>
              <p:cNvPr id="458" name="AutoShape 29"/>
              <p:cNvSpPr/>
              <p:nvPr/>
            </p:nvSpPr>
            <p:spPr>
              <a:xfrm>
                <a:off x="145800" y="80460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환자의 생리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병리</a:t>
                </a:r>
                <a:r>
                  <a:rPr b="0" lang="en-US" sz="2200" spc="-1" strike="noStrike">
                    <a:solidFill>
                      <a:srgbClr val="c00000"/>
                    </a:solidFill>
                    <a:latin typeface="HY강B"/>
                  </a:rPr>
                  <a:t>,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임상적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9" name="Text Box 25"/>
              <p:cNvSpPr/>
              <p:nvPr/>
            </p:nvSpPr>
            <p:spPr>
              <a:xfrm>
                <a:off x="431280" y="1233000"/>
                <a:ext cx="8641080" cy="279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질병과 위험인자 사이의 관련성이 약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질병에 수반되는 증상이 없거나 비전형적인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력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력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사정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ADL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따라 개인차 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장기질환의 특성을 지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식장애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장애를 일으키기 쉬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분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해질의 균형 즉</a:t>
                </a: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항상성을 유지하기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나 경제생활이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체력과 예비능력이 위축되어 있는 경우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와 병리적 노화의 구분이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0" name="그룹 10"/>
            <p:cNvGrpSpPr/>
            <p:nvPr/>
          </p:nvGrpSpPr>
          <p:grpSpPr>
            <a:xfrm>
              <a:off x="142560" y="4000320"/>
              <a:ext cx="8925120" cy="2410200"/>
              <a:chOff x="142560" y="4000320"/>
              <a:chExt cx="8925120" cy="2410200"/>
            </a:xfrm>
          </p:grpSpPr>
          <p:sp>
            <p:nvSpPr>
              <p:cNvPr id="461" name="AutoShape 29"/>
              <p:cNvSpPr/>
              <p:nvPr/>
            </p:nvSpPr>
            <p:spPr>
              <a:xfrm>
                <a:off x="142560" y="400032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환자의 진단과 치료과정의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2" name="Text Box 25"/>
              <p:cNvSpPr/>
              <p:nvPr/>
            </p:nvSpPr>
            <p:spPr>
              <a:xfrm>
                <a:off x="428040" y="4474800"/>
                <a:ext cx="863964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력의 청취가 어려워 진단과 치료가 어려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검사결과가 젊은 환자는 물론 개인에 따라 차이가 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합병증을 수반하기 쉬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기적 치료와 간호를 필요로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적 치료 뿐 아니라 삶의 질에 대한 판단도 중요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상환자가 될 가능성이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26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sp>
          <p:nvSpPr>
            <p:cNvPr id="464" name="AutoShape 2"/>
            <p:cNvSpPr/>
            <p:nvPr/>
          </p:nvSpPr>
          <p:spPr>
            <a:xfrm>
              <a:off x="285480" y="5500800"/>
              <a:ext cx="8643960" cy="8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6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주요 질환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7" name="그룹 34"/>
            <p:cNvGrpSpPr/>
            <p:nvPr/>
          </p:nvGrpSpPr>
          <p:grpSpPr>
            <a:xfrm>
              <a:off x="285480" y="928440"/>
              <a:ext cx="8643960" cy="928440"/>
              <a:chOff x="285480" y="928440"/>
              <a:chExt cx="8643960" cy="928440"/>
            </a:xfrm>
          </p:grpSpPr>
          <p:sp>
            <p:nvSpPr>
              <p:cNvPr id="468" name="AutoShape 2"/>
              <p:cNvSpPr/>
              <p:nvPr/>
            </p:nvSpPr>
            <p:spPr>
              <a:xfrm>
                <a:off x="285480" y="1285560"/>
                <a:ext cx="864396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9" name="AutoShape 4"/>
              <p:cNvSpPr/>
              <p:nvPr/>
            </p:nvSpPr>
            <p:spPr>
              <a:xfrm>
                <a:off x="356760" y="92844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순환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호흡기계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Text Box 6"/>
              <p:cNvSpPr/>
              <p:nvPr/>
            </p:nvSpPr>
            <p:spPr>
              <a:xfrm>
                <a:off x="285480" y="1428480"/>
                <a:ext cx="864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동맥경화성 혈관질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부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성폐쇄성 폐질환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1" name="AutoShape 2"/>
            <p:cNvSpPr/>
            <p:nvPr/>
          </p:nvSpPr>
          <p:spPr>
            <a:xfrm>
              <a:off x="285480" y="2357280"/>
              <a:ext cx="864396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2" name="그룹 11"/>
            <p:cNvGrpSpPr/>
            <p:nvPr/>
          </p:nvGrpSpPr>
          <p:grpSpPr>
            <a:xfrm>
              <a:off x="285480" y="2000160"/>
              <a:ext cx="8643960" cy="868680"/>
              <a:chOff x="285480" y="2000160"/>
              <a:chExt cx="8643960" cy="868680"/>
            </a:xfrm>
          </p:grpSpPr>
          <p:sp>
            <p:nvSpPr>
              <p:cNvPr id="473" name="AutoShape 4"/>
              <p:cNvSpPr/>
              <p:nvPr/>
            </p:nvSpPr>
            <p:spPr>
              <a:xfrm>
                <a:off x="356760" y="200016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소화기계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신장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4" name="Text Box 6"/>
              <p:cNvSpPr/>
              <p:nvPr/>
            </p:nvSpPr>
            <p:spPr>
              <a:xfrm>
                <a:off x="285480" y="2500560"/>
                <a:ext cx="864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악성 위종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대장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간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성신부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75" name="그룹 33"/>
            <p:cNvGrpSpPr/>
            <p:nvPr/>
          </p:nvGrpSpPr>
          <p:grpSpPr>
            <a:xfrm>
              <a:off x="285480" y="3071880"/>
              <a:ext cx="8643960" cy="928440"/>
              <a:chOff x="285480" y="3071880"/>
              <a:chExt cx="8643960" cy="928440"/>
            </a:xfrm>
          </p:grpSpPr>
          <p:sp>
            <p:nvSpPr>
              <p:cNvPr id="476" name="AutoShape 2"/>
              <p:cNvSpPr/>
              <p:nvPr/>
            </p:nvSpPr>
            <p:spPr>
              <a:xfrm>
                <a:off x="285480" y="3429000"/>
                <a:ext cx="864396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77" name="그룹 11"/>
              <p:cNvGrpSpPr/>
              <p:nvPr/>
            </p:nvGrpSpPr>
            <p:grpSpPr>
              <a:xfrm>
                <a:off x="285480" y="3071880"/>
                <a:ext cx="8643960" cy="868320"/>
                <a:chOff x="285480" y="3071880"/>
                <a:chExt cx="8643960" cy="868320"/>
              </a:xfrm>
            </p:grpSpPr>
            <p:sp>
              <p:nvSpPr>
                <p:cNvPr id="478" name="AutoShape 4"/>
                <p:cNvSpPr/>
                <p:nvPr/>
              </p:nvSpPr>
              <p:spPr>
                <a:xfrm>
                  <a:off x="356760" y="3071880"/>
                  <a:ext cx="4071960" cy="428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ffffff"/>
                      </a:solidFill>
                      <a:latin typeface="HY강B"/>
                    </a:rPr>
                    <a:t>3) </a:t>
                  </a:r>
                  <a:r>
                    <a:rPr b="0" lang="ko-KR" sz="2200" spc="-1" strike="noStrike">
                      <a:solidFill>
                        <a:srgbClr val="ffffff"/>
                      </a:solidFill>
                      <a:latin typeface="HY강B"/>
                    </a:rPr>
                    <a:t>근골격계</a:t>
                  </a:r>
                  <a:r>
                    <a:rPr b="0" lang="en-US" sz="2200" spc="-1" strike="noStrike">
                      <a:solidFill>
                        <a:srgbClr val="ffffff"/>
                      </a:solidFill>
                      <a:latin typeface="HY강B"/>
                    </a:rPr>
                    <a:t>, </a:t>
                  </a:r>
                  <a:r>
                    <a:rPr b="0" lang="ko-KR" sz="2200" spc="-1" strike="noStrike">
                      <a:solidFill>
                        <a:srgbClr val="ffffff"/>
                      </a:solidFill>
                      <a:latin typeface="HY강B"/>
                    </a:rPr>
                    <a:t>내분비계 질환</a:t>
                  </a:r>
                  <a:endParaRPr b="0" lang="en-US" sz="22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9" name="Text Box 6"/>
                <p:cNvSpPr/>
                <p:nvPr/>
              </p:nvSpPr>
              <p:spPr>
                <a:xfrm>
                  <a:off x="285480" y="3571920"/>
                  <a:ext cx="8643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관절염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골다공증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당뇨병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3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0" name="그룹 32"/>
            <p:cNvGrpSpPr/>
            <p:nvPr/>
          </p:nvGrpSpPr>
          <p:grpSpPr>
            <a:xfrm>
              <a:off x="285480" y="4130640"/>
              <a:ext cx="8715600" cy="868680"/>
              <a:chOff x="285480" y="4130640"/>
              <a:chExt cx="8715600" cy="868680"/>
            </a:xfrm>
          </p:grpSpPr>
          <p:sp>
            <p:nvSpPr>
              <p:cNvPr id="481" name="AutoShape 2"/>
              <p:cNvSpPr/>
              <p:nvPr/>
            </p:nvSpPr>
            <p:spPr>
              <a:xfrm>
                <a:off x="285480" y="4416480"/>
                <a:ext cx="8644320" cy="571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82" name="그룹 11"/>
              <p:cNvGrpSpPr/>
              <p:nvPr/>
            </p:nvGrpSpPr>
            <p:grpSpPr>
              <a:xfrm>
                <a:off x="356760" y="4130640"/>
                <a:ext cx="8644320" cy="868680"/>
                <a:chOff x="356760" y="4130640"/>
                <a:chExt cx="8644320" cy="868680"/>
              </a:xfrm>
            </p:grpSpPr>
            <p:sp>
              <p:nvSpPr>
                <p:cNvPr id="483" name="AutoShape 4"/>
                <p:cNvSpPr/>
                <p:nvPr/>
              </p:nvSpPr>
              <p:spPr>
                <a:xfrm>
                  <a:off x="428040" y="4130640"/>
                  <a:ext cx="407196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</a:t>
                  </a:r>
                  <a:r>
                    <a:rPr b="0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안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, </a:t>
                  </a:r>
                  <a:r>
                    <a:rPr b="0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비뇨기계 질환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4" name="Text Box 6"/>
                <p:cNvSpPr/>
                <p:nvPr/>
              </p:nvSpPr>
              <p:spPr>
                <a:xfrm>
                  <a:off x="356760" y="4631040"/>
                  <a:ext cx="864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백내장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녹내장</a:t>
                  </a:r>
                  <a:r>
                    <a:rPr b="0" lang="en-US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전립선 비대증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5" name="그룹 11"/>
            <p:cNvGrpSpPr/>
            <p:nvPr/>
          </p:nvGrpSpPr>
          <p:grpSpPr>
            <a:xfrm>
              <a:off x="357120" y="5143680"/>
              <a:ext cx="8643960" cy="1204920"/>
              <a:chOff x="357120" y="5143680"/>
              <a:chExt cx="8643960" cy="1204920"/>
            </a:xfrm>
          </p:grpSpPr>
          <p:sp>
            <p:nvSpPr>
              <p:cNvPr id="486" name="AutoShape 4"/>
              <p:cNvSpPr/>
              <p:nvPr/>
            </p:nvSpPr>
            <p:spPr>
              <a:xfrm>
                <a:off x="428400" y="514368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신경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정신 질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7" name="Text Box 6"/>
              <p:cNvSpPr/>
              <p:nvPr/>
            </p:nvSpPr>
            <p:spPr>
              <a:xfrm>
                <a:off x="357120" y="5629680"/>
                <a:ext cx="864396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뇌졸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섬망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우울증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치매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에서 상세히 논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그룹 18"/>
          <p:cNvGrpSpPr/>
          <p:nvPr/>
        </p:nvGrpSpPr>
        <p:grpSpPr>
          <a:xfrm>
            <a:off x="0" y="0"/>
            <a:ext cx="9358200" cy="6346440"/>
            <a:chOff x="0" y="0"/>
            <a:chExt cx="9358200" cy="6346440"/>
          </a:xfrm>
        </p:grpSpPr>
        <p:sp>
          <p:nvSpPr>
            <p:cNvPr id="489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질병 양상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0" name="그룹 16"/>
            <p:cNvGrpSpPr/>
            <p:nvPr/>
          </p:nvGrpSpPr>
          <p:grpSpPr>
            <a:xfrm>
              <a:off x="0" y="0"/>
              <a:ext cx="9144000" cy="6346440"/>
              <a:chOff x="0" y="0"/>
              <a:chExt cx="9144000" cy="6346440"/>
            </a:xfrm>
          </p:grpSpPr>
          <p:sp>
            <p:nvSpPr>
              <p:cNvPr id="491" name="AutoShape 2"/>
              <p:cNvSpPr/>
              <p:nvPr/>
            </p:nvSpPr>
            <p:spPr>
              <a:xfrm>
                <a:off x="285480" y="2786040"/>
                <a:ext cx="8643960" cy="1714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92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85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3" name="AutoShape 2"/>
              <p:cNvSpPr/>
              <p:nvPr/>
            </p:nvSpPr>
            <p:spPr>
              <a:xfrm>
                <a:off x="285480" y="1143000"/>
                <a:ext cx="864396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AutoShape 4"/>
              <p:cNvSpPr/>
              <p:nvPr/>
            </p:nvSpPr>
            <p:spPr>
              <a:xfrm>
                <a:off x="357120" y="785520"/>
                <a:ext cx="4319640" cy="323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000" spc="-1" strike="noStrike">
                    <a:solidFill>
                      <a:srgbClr val="ffffff"/>
                    </a:solidFill>
                    <a:latin typeface="HY강B"/>
                  </a:rPr>
                  <a:t>만성질환 유병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Text Box 6"/>
              <p:cNvSpPr/>
              <p:nvPr/>
            </p:nvSpPr>
            <p:spPr>
              <a:xfrm>
                <a:off x="285480" y="1142640"/>
                <a:ext cx="8678880" cy="10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84.0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만성질환을 앓고 있으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.9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 질환을 앓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도시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교육수준 낮은 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별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노인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저소득 노인의 유병률 높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6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당뇨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지혈증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관절염 등 유병률 높고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심각한 우울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3.5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지저하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5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낙상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7%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6" name="AutoShape 4"/>
              <p:cNvSpPr/>
              <p:nvPr/>
            </p:nvSpPr>
            <p:spPr>
              <a:xfrm>
                <a:off x="357120" y="2319120"/>
                <a:ext cx="4319640" cy="466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강B"/>
                  </a:rPr>
                  <a:t>2. </a:t>
                </a:r>
                <a:r>
                  <a:rPr b="0" lang="ko-KR" sz="2000" spc="-1" strike="noStrike">
                    <a:solidFill>
                      <a:srgbClr val="ffffff"/>
                    </a:solidFill>
                    <a:latin typeface="HY강B"/>
                  </a:rPr>
                  <a:t>질병의 치료와 수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Text Box 6"/>
              <p:cNvSpPr/>
              <p:nvPr/>
            </p:nvSpPr>
            <p:spPr>
              <a:xfrm>
                <a:off x="285480" y="2766960"/>
                <a:ext cx="8572680" cy="16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에 따라 치료행태 다름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82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치료약 복용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병원방문 노인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71%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입원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7%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고령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소득과 교육 수준 낮은 노인 의료이용율이 상대적으로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 등으로 수발 필요시 받는 경우가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55%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성원이 주로 부양을 담당하며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여성 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배우자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며느리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딸로부터 수발 받음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특히 여성노인 수발자의 부양부담 높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7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질병 등으로 인해 </a:t>
                </a:r>
                <a:r>
                  <a:rPr b="0" lang="en-US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2% </a:t>
                </a:r>
                <a:r>
                  <a:rPr b="0" lang="ko-KR" sz="16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정도가 일상생활의 지장을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AutoShape 2"/>
              <p:cNvSpPr/>
              <p:nvPr/>
            </p:nvSpPr>
            <p:spPr>
              <a:xfrm>
                <a:off x="285480" y="4903920"/>
                <a:ext cx="8643960" cy="1382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99" name="그룹 11"/>
              <p:cNvGrpSpPr/>
              <p:nvPr/>
            </p:nvGrpSpPr>
            <p:grpSpPr>
              <a:xfrm>
                <a:off x="285480" y="4643640"/>
                <a:ext cx="8572680" cy="1702800"/>
                <a:chOff x="285480" y="4643640"/>
                <a:chExt cx="8572680" cy="1702800"/>
              </a:xfrm>
            </p:grpSpPr>
            <p:sp>
              <p:nvSpPr>
                <p:cNvPr id="500" name="AutoShape 4"/>
                <p:cNvSpPr/>
                <p:nvPr/>
              </p:nvSpPr>
              <p:spPr>
                <a:xfrm>
                  <a:off x="356760" y="4643640"/>
                  <a:ext cx="4319640" cy="374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HY강B"/>
                    </a:rPr>
                    <a:t>3. </a:t>
                  </a:r>
                  <a:r>
                    <a:rPr b="0" lang="ko-KR" sz="2000" spc="-1" strike="noStrike">
                      <a:solidFill>
                        <a:srgbClr val="ffffff"/>
                      </a:solidFill>
                      <a:latin typeface="HY강B"/>
                    </a:rPr>
                    <a:t>장애와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r>
                    <a:rPr b="0" lang="ko-KR" sz="2000" spc="-1" strike="noStrike">
                      <a:solidFill>
                        <a:srgbClr val="ffffff"/>
                      </a:solidFill>
                      <a:latin typeface="HY강B"/>
                    </a:rPr>
                    <a:t>사망원인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01" name="Text Box 6"/>
                <p:cNvSpPr/>
                <p:nvPr/>
              </p:nvSpPr>
              <p:spPr>
                <a:xfrm>
                  <a:off x="285480" y="5050080"/>
                  <a:ext cx="8572680" cy="129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장애출현율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: 18.00%(114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9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천여명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로 전체 인구에 비해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3.5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배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지체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청각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뇌병변 등의 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순으로 출현율 높음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8 </a:t>
                  </a:r>
                  <a:r>
                    <a:rPr b="0" lang="ko-KR" sz="16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). 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노인 장애인이 전체 장애인의 </a:t>
                  </a:r>
                  <a:r>
                    <a:rPr b="0" lang="en-US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49.9%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003366"/>
                      </a:solidFill>
                      <a:latin typeface="HY강M"/>
                      <a:ea typeface="HY강M"/>
                    </a:rPr>
                    <a:t>차지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사망원인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악성신생물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심장질환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폐렴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뇌혈관질환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알츠하이머병 등의 순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3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자살에 의한 사망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60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대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10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만명당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33.7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명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70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대는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46.2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명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, 80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세 이상은 </a:t>
                  </a:r>
                  <a:r>
                    <a:rPr b="0" lang="en-US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67.2</a:t>
                  </a:r>
                  <a:r>
                    <a:rPr b="0" lang="ko-KR" sz="1600" spc="-1" strike="noStrike">
                      <a:solidFill>
                        <a:srgbClr val="181373"/>
                      </a:solidFill>
                      <a:latin typeface="HY강M"/>
                      <a:ea typeface="HY강M"/>
                    </a:rPr>
                    <a:t>명으로 높아짐</a:t>
                  </a:r>
                  <a:endParaRPr b="0" lang="en-US" sz="1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그룹 17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일상생활 동작능력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5" name="그룹 16"/>
            <p:cNvGrpSpPr/>
            <p:nvPr/>
          </p:nvGrpSpPr>
          <p:grpSpPr>
            <a:xfrm>
              <a:off x="285480" y="785520"/>
              <a:ext cx="8715600" cy="5572440"/>
              <a:chOff x="285480" y="785520"/>
              <a:chExt cx="8715600" cy="5572440"/>
            </a:xfrm>
          </p:grpSpPr>
          <p:sp>
            <p:nvSpPr>
              <p:cNvPr id="506" name="AutoShape 2"/>
              <p:cNvSpPr/>
              <p:nvPr/>
            </p:nvSpPr>
            <p:spPr>
              <a:xfrm>
                <a:off x="285480" y="4000320"/>
                <a:ext cx="8715600" cy="2357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AutoShape 2"/>
              <p:cNvSpPr/>
              <p:nvPr/>
            </p:nvSpPr>
            <p:spPr>
              <a:xfrm>
                <a:off x="285480" y="1265040"/>
                <a:ext cx="8715600" cy="209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356760" y="785520"/>
                <a:ext cx="464364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개념과 측정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356760" y="1285560"/>
                <a:ext cx="8644320" cy="20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Katz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동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basic ADL, IADL), Barthel(PADL, IADL)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험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옷입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치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체위변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앉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옮겨앉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외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화장실 사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변조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변조절 등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단적 일상생활기능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 항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DL= PADL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elf care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능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IADL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 외부 도구적 활동능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측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인정조사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동작능력 평가도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9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Barthel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척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0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AutoShape 4"/>
              <p:cNvSpPr/>
              <p:nvPr/>
            </p:nvSpPr>
            <p:spPr>
              <a:xfrm>
                <a:off x="356760" y="3497040"/>
                <a:ext cx="464364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일상생활 동작능력의 수준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1" name="Text Box 6"/>
              <p:cNvSpPr/>
              <p:nvPr/>
            </p:nvSpPr>
            <p:spPr>
              <a:xfrm>
                <a:off x="356760" y="4076640"/>
                <a:ext cx="864432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항목에 따라 차이 있지만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PADL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수준이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IADL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수준보다 높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장기요양보험제도에서는 일상생활 동작능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행동변화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간호처치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재활영역의 욕구를 고려하여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기능상태와 요양욕구 평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2020)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에 의하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 P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에 제한이 있는 노인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5.6%, I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제한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12.0%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소득 낮은 노인 등의 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ADL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제한 비율이 상대적으로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그룹 10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51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6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년기의 영양관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5" name="직사각형 17"/>
            <p:cNvSpPr/>
            <p:nvPr/>
          </p:nvSpPr>
          <p:spPr>
            <a:xfrm>
              <a:off x="285480" y="857160"/>
              <a:ext cx="6157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년기의 영양문제 유발요인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6" name="Group 12"/>
            <p:cNvGrpSpPr/>
            <p:nvPr/>
          </p:nvGrpSpPr>
          <p:grpSpPr>
            <a:xfrm>
              <a:off x="285480" y="1285920"/>
              <a:ext cx="8572320" cy="5072040"/>
              <a:chOff x="285480" y="1285920"/>
              <a:chExt cx="8572320" cy="5072040"/>
            </a:xfrm>
          </p:grpSpPr>
          <p:sp>
            <p:nvSpPr>
              <p:cNvPr id="517" name="AutoShape 2"/>
              <p:cNvSpPr/>
              <p:nvPr/>
            </p:nvSpPr>
            <p:spPr>
              <a:xfrm>
                <a:off x="285480" y="1285920"/>
                <a:ext cx="8572320" cy="857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6"/>
              <p:cNvSpPr/>
              <p:nvPr/>
            </p:nvSpPr>
            <p:spPr>
              <a:xfrm>
                <a:off x="356760" y="1285920"/>
                <a:ext cx="8501040" cy="78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 저하와 치아결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화기계의 기능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자재 구입과 조리 어려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신 생활 또는 빈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의 무관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9" name="직사각형 18"/>
              <p:cNvSpPr/>
              <p:nvPr/>
            </p:nvSpPr>
            <p:spPr>
              <a:xfrm>
                <a:off x="285480" y="2357280"/>
                <a:ext cx="66434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년기의 영양권장량과 영양소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0" name="AutoShape 2"/>
              <p:cNvSpPr/>
              <p:nvPr/>
            </p:nvSpPr>
            <p:spPr>
              <a:xfrm>
                <a:off x="285480" y="2786040"/>
                <a:ext cx="8572320" cy="3571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1" name="Text Box 6"/>
              <p:cNvSpPr/>
              <p:nvPr/>
            </p:nvSpPr>
            <p:spPr>
              <a:xfrm>
                <a:off x="356760" y="2786040"/>
                <a:ext cx="8286840" cy="355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 에너지 필요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65-7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이상 남성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Cal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1600Cal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에는 전반적으로 열량섭취를 줄이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백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기질은 충분히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섭취하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모든 영양소를 균형 있게 섭취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소별 필요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권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충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한섭취량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에너지는 기준 이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단백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철 나트륨은 기준 이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칼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칼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타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, C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티아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나이아신 등은 기준 이하 섭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관리 필요 노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%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바람직한 식사지침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134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올바른 식습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골고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알맞게 세끼 식사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간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체중 시에 체중조절을 위한 식이요법이 필요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질병 시에는 식이요법의 병행이 필요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-1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그룹 16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grpSp>
          <p:nvGrpSpPr>
            <p:cNvPr id="523" name="그룹 38"/>
            <p:cNvGrpSpPr/>
            <p:nvPr/>
          </p:nvGrpSpPr>
          <p:grpSpPr>
            <a:xfrm>
              <a:off x="285480" y="1857240"/>
              <a:ext cx="8715600" cy="4429440"/>
              <a:chOff x="285480" y="1857240"/>
              <a:chExt cx="8715600" cy="4429440"/>
            </a:xfrm>
          </p:grpSpPr>
          <p:sp>
            <p:nvSpPr>
              <p:cNvPr id="524" name="AutoShape 2"/>
              <p:cNvSpPr/>
              <p:nvPr/>
            </p:nvSpPr>
            <p:spPr>
              <a:xfrm>
                <a:off x="285480" y="4394520"/>
                <a:ext cx="8715600" cy="1892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5" name="AutoShape 2"/>
              <p:cNvSpPr/>
              <p:nvPr/>
            </p:nvSpPr>
            <p:spPr>
              <a:xfrm>
                <a:off x="285480" y="1857240"/>
                <a:ext cx="8715600" cy="2000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2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7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환자의 케어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(care)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8" name="그룹 15"/>
            <p:cNvGrpSpPr/>
            <p:nvPr/>
          </p:nvGrpSpPr>
          <p:grpSpPr>
            <a:xfrm>
              <a:off x="357120" y="1500120"/>
              <a:ext cx="8643960" cy="4703400"/>
              <a:chOff x="357120" y="1500120"/>
              <a:chExt cx="8643960" cy="4703400"/>
            </a:xfrm>
          </p:grpSpPr>
          <p:grpSp>
            <p:nvGrpSpPr>
              <p:cNvPr id="529" name="그룹 10"/>
              <p:cNvGrpSpPr/>
              <p:nvPr/>
            </p:nvGrpSpPr>
            <p:grpSpPr>
              <a:xfrm>
                <a:off x="357120" y="1500120"/>
                <a:ext cx="8643960" cy="2273040"/>
                <a:chOff x="357120" y="1500120"/>
                <a:chExt cx="8643960" cy="2273040"/>
              </a:xfrm>
            </p:grpSpPr>
            <p:sp>
              <p:nvSpPr>
                <p:cNvPr id="530" name="AutoShape 4"/>
                <p:cNvSpPr/>
                <p:nvPr/>
              </p:nvSpPr>
              <p:spPr>
                <a:xfrm>
                  <a:off x="357120" y="1500120"/>
                  <a:ext cx="4643640" cy="46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.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케어의 개념과 특성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31" name="Text Box 6"/>
                <p:cNvSpPr/>
                <p:nvPr/>
              </p:nvSpPr>
              <p:spPr>
                <a:xfrm>
                  <a:off x="357120" y="2001960"/>
                  <a:ext cx="8643960" cy="177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질병이나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 장애가 있는 자에게 전문지식과 기술에 기반한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대인서비스 또는 원조행위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수발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양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요양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돌봄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介護로 번역됨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vs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육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는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ADL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완과 지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보육은 자립생활 능력 배양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의 원칙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기결정권 존중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계속성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잔존능력의 활용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케어의 실천단계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관계형성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정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계획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실행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평가단계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그림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4-1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그룹 10"/>
              <p:cNvGrpSpPr/>
              <p:nvPr/>
            </p:nvGrpSpPr>
            <p:grpSpPr>
              <a:xfrm>
                <a:off x="357120" y="4068720"/>
                <a:ext cx="8501400" cy="2134800"/>
                <a:chOff x="357120" y="4068720"/>
                <a:chExt cx="8501400" cy="2134800"/>
              </a:xfrm>
            </p:grpSpPr>
            <p:sp>
              <p:nvSpPr>
                <p:cNvPr id="533" name="AutoShape 4"/>
                <p:cNvSpPr/>
                <p:nvPr/>
              </p:nvSpPr>
              <p:spPr>
                <a:xfrm>
                  <a:off x="357120" y="4068720"/>
                  <a:ext cx="4643640" cy="46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케어 기술의 개념과 특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34" name="Text Box 6"/>
                <p:cNvSpPr/>
                <p:nvPr/>
              </p:nvSpPr>
              <p:spPr>
                <a:xfrm>
                  <a:off x="357120" y="4660920"/>
                  <a:ext cx="8501400" cy="15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구체적 케어 욕구와 문제해결을 위해 사용하는 케어 방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케어기술의 조건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안전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안락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정확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능숙성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케어활동은 케어 가치관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전문지식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숙련된 기술을 바탕으로 하여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대상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의</a:t>
                  </a:r>
                  <a:r>
                    <a:rPr b="0" lang="en-US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욕구와 문제에 맞게 개별화된 기술을 활용해야 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5" name="AutoShape 2"/>
            <p:cNvSpPr/>
            <p:nvPr/>
          </p:nvSpPr>
          <p:spPr>
            <a:xfrm>
              <a:off x="285480" y="785880"/>
              <a:ext cx="871560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Text Box 6"/>
            <p:cNvSpPr/>
            <p:nvPr/>
          </p:nvSpPr>
          <p:spPr>
            <a:xfrm>
              <a:off x="285480" y="823680"/>
              <a:ext cx="87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884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령노인증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부양기능 약화로 장기요양욕구 지닌 노인 인구 증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1:24:25Z</dcterms:modified>
  <cp:revision>26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